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371520" y="980640"/>
            <a:ext cx="4790880" cy="3506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move the slide</a:t>
            </a:r>
            <a:endParaRPr b="1" i="1" lang="en-US" sz="2800" spc="-1" strike="noStrike">
              <a:solidFill>
                <a:srgbClr val="1f497d"/>
              </a:solidFill>
              <a:latin typeface="Arial"/>
            </a:endParaRPr>
          </a:p>
        </p:txBody>
      </p:sp>
      <p:sp>
        <p:nvSpPr>
          <p:cNvPr id="87" name="PlaceHolder 4"/>
          <p:cNvSpPr>
            <a:spLocks noGrp="1"/>
          </p:cNvSpPr>
          <p:nvPr>
            <p:ph type="body"/>
          </p:nvPr>
        </p:nvSpPr>
        <p:spPr>
          <a:xfrm>
            <a:off x="5363640" y="1413000"/>
            <a:ext cx="3240360" cy="424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DC66-07A8-42DE-94E8-84F2D0D6DAD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8760" y="981000"/>
            <a:ext cx="4676760" cy="3506760"/>
          </a:xfrm>
          <a:prstGeom prst="rect">
            <a:avLst/>
          </a:prstGeom>
          <a:ln w="0">
            <a:noFill/>
          </a:ln>
        </p:spPr>
      </p:sp>
      <p:sp>
        <p:nvSpPr>
          <p:cNvPr id="12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DEFE-112C-4F49-ABC5-3E66B4BF76F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28760" y="981000"/>
            <a:ext cx="4676760" cy="3506760"/>
          </a:xfrm>
          <a:prstGeom prst="rect">
            <a:avLst/>
          </a:prstGeom>
          <a:ln w="0">
            <a:noFill/>
          </a:ln>
        </p:spPr>
      </p:sp>
      <p:sp>
        <p:nvSpPr>
          <p:cNvPr id="156"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6007-6C4E-4090-9157-378C779C0E3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28760" y="981000"/>
            <a:ext cx="4676760" cy="3506760"/>
          </a:xfrm>
          <a:prstGeom prst="rect">
            <a:avLst/>
          </a:prstGeom>
          <a:ln w="0">
            <a:noFill/>
          </a:ln>
        </p:spPr>
      </p:sp>
      <p:sp>
        <p:nvSpPr>
          <p:cNvPr id="15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F823-797C-43F3-BD49-110ECF68E3B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28760" y="981000"/>
            <a:ext cx="4676760" cy="3506760"/>
          </a:xfrm>
          <a:prstGeom prst="rect">
            <a:avLst/>
          </a:prstGeom>
          <a:ln w="0">
            <a:noFill/>
          </a:ln>
        </p:spPr>
      </p:sp>
      <p:sp>
        <p:nvSpPr>
          <p:cNvPr id="16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D54B-0D9F-402C-BEE9-90F1930AE6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28760" y="981000"/>
            <a:ext cx="4676760" cy="3506760"/>
          </a:xfrm>
          <a:prstGeom prst="rect">
            <a:avLst/>
          </a:prstGeom>
          <a:ln w="0">
            <a:noFill/>
          </a:ln>
        </p:spPr>
      </p:sp>
      <p:sp>
        <p:nvSpPr>
          <p:cNvPr id="16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541A-E222-4B1A-8BEA-7F23D868FE8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28760" y="981000"/>
            <a:ext cx="4676760" cy="3506760"/>
          </a:xfrm>
          <a:prstGeom prst="rect">
            <a:avLst/>
          </a:prstGeom>
          <a:ln w="0">
            <a:noFill/>
          </a:ln>
        </p:spPr>
      </p:sp>
      <p:sp>
        <p:nvSpPr>
          <p:cNvPr id="13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DD72-4A94-4CE2-AB08-6EA4176C265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428760" y="981000"/>
            <a:ext cx="4676760" cy="3506760"/>
          </a:xfrm>
          <a:prstGeom prst="rect">
            <a:avLst/>
          </a:prstGeom>
          <a:ln w="0">
            <a:noFill/>
          </a:ln>
        </p:spPr>
      </p:sp>
      <p:sp>
        <p:nvSpPr>
          <p:cNvPr id="13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1CB9-F1A8-4269-B87C-51DFC67E115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428760" y="981000"/>
            <a:ext cx="4676760" cy="3506760"/>
          </a:xfrm>
          <a:prstGeom prst="rect">
            <a:avLst/>
          </a:prstGeom>
          <a:ln w="0">
            <a:noFill/>
          </a:ln>
        </p:spPr>
      </p:sp>
      <p:sp>
        <p:nvSpPr>
          <p:cNvPr id="138"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D5F2-DD40-4C7D-84D3-ABF64D18434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428760" y="981000"/>
            <a:ext cx="4676760" cy="3506760"/>
          </a:xfrm>
          <a:prstGeom prst="rect">
            <a:avLst/>
          </a:prstGeom>
          <a:ln w="0">
            <a:noFill/>
          </a:ln>
        </p:spPr>
      </p:sp>
      <p:sp>
        <p:nvSpPr>
          <p:cNvPr id="141"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49B6-F78F-4969-8942-E21B6B60C1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28760" y="981000"/>
            <a:ext cx="4676760" cy="3506760"/>
          </a:xfrm>
          <a:prstGeom prst="rect">
            <a:avLst/>
          </a:prstGeom>
          <a:ln w="0">
            <a:noFill/>
          </a:ln>
        </p:spPr>
      </p:sp>
      <p:sp>
        <p:nvSpPr>
          <p:cNvPr id="144"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8D32-1148-48AB-9969-578589295C8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428760" y="981000"/>
            <a:ext cx="4676760" cy="3506760"/>
          </a:xfrm>
          <a:prstGeom prst="rect">
            <a:avLst/>
          </a:prstGeom>
          <a:ln w="0">
            <a:noFill/>
          </a:ln>
        </p:spPr>
      </p:sp>
      <p:sp>
        <p:nvSpPr>
          <p:cNvPr id="147"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FD8C-F9A4-426B-B5A7-812812229AB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428760" y="981000"/>
            <a:ext cx="4676760" cy="3506760"/>
          </a:xfrm>
          <a:prstGeom prst="rect">
            <a:avLst/>
          </a:prstGeom>
          <a:ln w="0">
            <a:noFill/>
          </a:ln>
        </p:spPr>
      </p:sp>
      <p:sp>
        <p:nvSpPr>
          <p:cNvPr id="150"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E790-920B-41B2-9427-686165170E2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28760" y="981000"/>
            <a:ext cx="4676760" cy="3506760"/>
          </a:xfrm>
          <a:prstGeom prst="rect">
            <a:avLst/>
          </a:prstGeom>
          <a:ln w="0">
            <a:noFill/>
          </a:ln>
        </p:spPr>
      </p:sp>
      <p:sp>
        <p:nvSpPr>
          <p:cNvPr id="153"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6832-3EFE-4D86-B2B3-5B5FE957A4B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A8A10-D815-4468-B0D7-4EF4CE0FC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8"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F426-BC24-435A-A106-635198D7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1"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C66F-3399-4E25-8C65-5CC45081B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6"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C56FB-6A42-44EF-88F0-F2B4BE577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323B5-A97B-461C-A214-ABA5AF0F0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48"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8B4DA-999C-413A-903E-613BD4C68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0"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DA7D7-01F5-4650-80A3-EDBCA5728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2"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0787F-6EA7-4EA7-A687-EF7CC61C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22B76-7E59-46B0-BCC0-6C7627CA3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6C85C-AC5E-43E6-8FD0-C0FC09AEC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7"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0B0C6-A2E5-4D4A-BCF9-C1804920B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414E-2756-4C00-9E1E-942223555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6BE63-1594-44A9-BABA-A4FF7E7A3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5"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0E7A1-A251-4652-BA06-70EE488CE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9"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CDE76-B0AF-430B-825E-445A7F385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2"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BCED1-1E01-48D9-935A-1138D9C20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7"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61AE4-31F2-4731-84B4-1418D0962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9"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24C42-CE14-40B9-8DC8-236C526C7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3A68-1CF5-4EB4-9E22-A61EB114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9370-2187-4DD9-AE96-704F56780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9912-2CD8-401F-BEDE-A6C3E7A9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6"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A50B-38A3-4B13-ABAD-65F50A3A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0"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86B6-20D2-4848-B048-BEA2D54E7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4"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3D58-3C07-4D28-9CBE-BE2841B7A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1" descr="plantilla.jpg"/>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edit the title text format</a:t>
            </a:r>
            <a:endParaRPr b="1" i="1" lang="en-US" sz="2800" spc="-1" strike="noStrike">
              <a:solidFill>
                <a:srgbClr val="1f497d"/>
              </a:solidFill>
              <a:latin typeface="Arial"/>
            </a:endParaRPr>
          </a:p>
        </p:txBody>
      </p:sp>
      <p:sp>
        <p:nvSpPr>
          <p:cNvPr id="2" name="PlaceHolder 2"/>
          <p:cNvSpPr>
            <a:spLocks noGrp="1"/>
          </p:cNvSpPr>
          <p:nvPr>
            <p:ph type="body"/>
          </p:nvPr>
        </p:nvSpPr>
        <p:spPr>
          <a:xfrm>
            <a:off x="53964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A6B8-40C5-4F4E-8179-88DDD4EA267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BD34-C11E-4461-93C5-D40479AA675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rdenman@thetourismcompany.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Imagen 4" descr="logo_unwto_ppt.jpg"/>
          <p:cNvPicPr/>
          <p:nvPr/>
        </p:nvPicPr>
        <p:blipFill>
          <a:blip r:embed="rId1"/>
          <a:stretch/>
        </p:blipFill>
        <p:spPr>
          <a:xfrm>
            <a:off x="517680" y="0"/>
            <a:ext cx="987120" cy="1395360"/>
          </a:xfrm>
          <a:prstGeom prst="rect">
            <a:avLst/>
          </a:prstGeom>
          <a:ln w="0">
            <a:noFill/>
          </a:ln>
        </p:spPr>
      </p:pic>
      <p:sp>
        <p:nvSpPr>
          <p:cNvPr id="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adroTexto 3"/>
          <p:cNvSpPr/>
          <p:nvPr/>
        </p:nvSpPr>
        <p:spPr>
          <a:xfrm>
            <a:off x="552600" y="2784600"/>
            <a:ext cx="3552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REGIONAL COAST ST G&amp;M SEMIN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Ada, Gh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October 2013</a:t>
            </a:r>
            <a:endParaRPr b="0" lang="en-US" sz="4000" spc="-1" strike="noStrike">
              <a:solidFill>
                <a:srgbClr val="000000"/>
              </a:solidFill>
              <a:latin typeface="Arial"/>
            </a:endParaRPr>
          </a:p>
        </p:txBody>
      </p:sp>
      <p:sp>
        <p:nvSpPr>
          <p:cNvPr id="96" name="14 CuadroTexto"/>
          <p:cNvSpPr/>
          <p:nvPr/>
        </p:nvSpPr>
        <p:spPr>
          <a:xfrm>
            <a:off x="4211640" y="270828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MS PGothic"/>
              </a:rPr>
              <a:t>Supporting community livelihoods</a:t>
            </a:r>
            <a:endParaRPr b="0" lang="en-US" sz="4400" spc="-1" strike="noStrike">
              <a:solidFill>
                <a:srgbClr val="000000"/>
              </a:solidFill>
              <a:latin typeface="Arial"/>
            </a:endParaRPr>
          </a:p>
        </p:txBody>
      </p:sp>
      <p:pic>
        <p:nvPicPr>
          <p:cNvPr id="97" name="Picture 9" descr=""/>
          <p:cNvPicPr/>
          <p:nvPr/>
        </p:nvPicPr>
        <p:blipFill>
          <a:blip r:embed="rId2"/>
          <a:stretch/>
        </p:blipFill>
        <p:spPr>
          <a:xfrm>
            <a:off x="1547640" y="476280"/>
            <a:ext cx="2416320" cy="1812960"/>
          </a:xfrm>
          <a:prstGeom prst="rect">
            <a:avLst/>
          </a:prstGeom>
          <a:ln w="0">
            <a:noFill/>
          </a:ln>
        </p:spPr>
      </p:pic>
      <p:pic>
        <p:nvPicPr>
          <p:cNvPr id="98"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99"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G_8485"/>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6" name="PlaceHolder 2"/>
          <p:cNvSpPr>
            <a:spLocks noGrp="1"/>
          </p:cNvSpPr>
          <p:nvPr>
            <p:ph/>
          </p:nvPr>
        </p:nvSpPr>
        <p:spPr>
          <a:xfrm>
            <a:off x="539640" y="1196640"/>
            <a:ext cx="8229600" cy="504036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000000"/>
                </a:solidFill>
                <a:latin typeface="Calibri"/>
              </a:rPr>
              <a:t>Foster community-based initiatives that meet conditions for sustainability and success</a:t>
            </a:r>
            <a:endParaRPr b="0" lang="en-US" sz="21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tives exist in all countri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ey requirements for sustainability and su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Understand needs, scale and capacit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ffective market a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void over-suppl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innovation – but related to market</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eek to complement the offer of existing business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ddress standards and public safet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velop appealing linkages/itinerar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quitable handling of any shared incom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ork with NGOs who can supply support and advic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local businesses to support community initiativ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rovide effective marketing and inform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8" name="Picture 7" descr="IMG_8853"/>
          <p:cNvPicPr/>
          <p:nvPr/>
        </p:nvPicPr>
        <p:blipFill>
          <a:blip r:embed="rId1"/>
          <a:stretch/>
        </p:blipFill>
        <p:spPr>
          <a:xfrm>
            <a:off x="539640" y="1944720"/>
            <a:ext cx="4038840" cy="3029040"/>
          </a:xfrm>
          <a:prstGeom prst="rect">
            <a:avLst/>
          </a:prstGeom>
          <a:ln w="0">
            <a:noFill/>
          </a:ln>
        </p:spPr>
      </p:pic>
      <p:pic>
        <p:nvPicPr>
          <p:cNvPr id="119" name="Picture 8" descr="IMG_8860"/>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21" name="Picture 6" descr="IMG_0438"/>
          <p:cNvPicPr/>
          <p:nvPr/>
        </p:nvPicPr>
        <p:blipFill>
          <a:blip r:embed="rId1"/>
          <a:stretch/>
        </p:blipFill>
        <p:spPr>
          <a:xfrm>
            <a:off x="539640" y="1944720"/>
            <a:ext cx="4038840" cy="3029040"/>
          </a:xfrm>
          <a:prstGeom prst="rect">
            <a:avLst/>
          </a:prstGeom>
          <a:ln w="0">
            <a:noFill/>
          </a:ln>
        </p:spPr>
      </p:pic>
      <p:pic>
        <p:nvPicPr>
          <p:cNvPr id="122" name="Picture 9" descr="IMG_0448"/>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G_9493"/>
          <p:cNvPicPr/>
          <p:nvPr/>
        </p:nvPicPr>
        <p:blipFill>
          <a:blip r:embed="rId1"/>
          <a:stretch/>
        </p:blipFill>
        <p:spPr>
          <a:xfrm>
            <a:off x="900000" y="404640"/>
            <a:ext cx="7475760" cy="560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QUESTIONS FOR DISCUSSION</a:t>
            </a:r>
            <a:endParaRPr b="1" i="1" lang="en-US" sz="2800" spc="-1" strike="noStrike">
              <a:solidFill>
                <a:srgbClr val="1f497d"/>
              </a:solidFill>
              <a:latin typeface="Arial"/>
            </a:endParaRPr>
          </a:p>
        </p:txBody>
      </p:sp>
      <p:sp>
        <p:nvSpPr>
          <p:cNvPr id="125" name="PlaceHolder 2"/>
          <p:cNvSpPr>
            <a:spLocks noGrp="1"/>
          </p:cNvSpPr>
          <p:nvPr>
            <p:ph/>
          </p:nvPr>
        </p:nvSpPr>
        <p:spPr>
          <a:xfrm>
            <a:off x="539640" y="1197000"/>
            <a:ext cx="8229600" cy="45259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your coastal community many families live below the poverty line and there is a considerable amount of environmental degradation (e.g. solid waste, cutting of mangroves for fuel wood and illegal fishing methods).  You wish to support the expansion of alternative local livelihoods to reduce the pressure on the environment.  The destination has five hotels with good but seasonal occupancy and a number of small guest house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would you identify which tourism opportunities for local people might make the most difference (to livelihoods and environmental conservation) while being most achievable?</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ich 2 or 3 opportunities do you think could offer the best potential?</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do you think would be the main barriers to success for these 2 or 3 opportunities?</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ctions should be taken to address these barrier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2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NK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chard Denma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rdenman@thetourismcompany.com</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verty reduction should be a goal of sustainable coastal tourism in its own r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not just about eco-tour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forms of livelihood from tourism have potential to bring at least indirect benefits to conserv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livelihood supporting initiatives are directly linked to biodiversity and conser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3" name="PlaceHolder 2"/>
          <p:cNvSpPr>
            <a:spLocks noGrp="1"/>
          </p:cNvSpPr>
          <p:nvPr>
            <p:ph/>
          </p:nvPr>
        </p:nvSpPr>
        <p:spPr>
          <a:xfrm>
            <a:off x="539640" y="981000"/>
            <a:ext cx="8229600" cy="5400720"/>
          </a:xfrm>
          <a:prstGeom prst="rect">
            <a:avLst/>
          </a:prstGeom>
          <a:noFill/>
          <a:ln w="0">
            <a:noFill/>
          </a:ln>
        </p:spPr>
        <p:txBody>
          <a:bodyPr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7 ST-EP mechanisms</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mployment of the poor in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upply of goods and services to tourism enterprises by the poor or by enterprises employing the poor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irect sales of goods and services to visitors by the poor (in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ablishment and running of small, micro or community-based tourism enterprises or joint ventures by the poor (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distribution of proceeds from tax or charge on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Voluntary giving and support by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vestment in infrastructure stimulated by tourism also benefiting the poor in the locality, directly or through support to other secto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5" name="PlaceHolder 2"/>
          <p:cNvSpPr>
            <a:spLocks noGrp="1"/>
          </p:cNvSpPr>
          <p:nvPr>
            <p:ph/>
          </p:nvPr>
        </p:nvSpPr>
        <p:spPr>
          <a:xfrm>
            <a:off x="539640" y="1196640"/>
            <a:ext cx="8229600" cy="4753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Strengthen supply and demand conditions for growing local employment</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ly little specific attention to employment issu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local business to understand employment needs and issu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en tourism awareness and skills in the destination through communication and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 local training needs and provi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rease demand for year-round jobs through increased marketing aimed at off-season busin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ourage private sector to recruit locally and provide long term career prospec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Build and maintain local supply chains</a:t>
            </a:r>
            <a:endParaRPr b="0" lang="en-US" sz="24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l supply chains rather undeveloped on the coa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a network of business to audit their suppl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estigate the practicality of improving local agricultural supp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y specific attention to the links between fishing and tourism – including supply of fish</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opportunities to sell products directly within hotels – e.g. handicraft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IMG_8911"/>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0" name="Picture 5" descr=""/>
          <p:cNvPicPr/>
          <p:nvPr/>
        </p:nvPicPr>
        <p:blipFill>
          <a:blip r:embed="rId1"/>
          <a:srcRect l="6117" t="15889" r="14257" b="15681"/>
          <a:stretch/>
        </p:blipFill>
        <p:spPr>
          <a:xfrm>
            <a:off x="179280" y="260280"/>
            <a:ext cx="878544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IMG_8678"/>
          <p:cNvPicPr/>
          <p:nvPr/>
        </p:nvPicPr>
        <p:blipFill>
          <a:blip r:embed="rId1"/>
          <a:stretch/>
        </p:blipFill>
        <p:spPr>
          <a:xfrm>
            <a:off x="900000" y="836640"/>
            <a:ext cx="763272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3"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Manage informal local trading</a:t>
            </a:r>
            <a:endParaRPr b="0" lang="en-US" sz="28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ach trading is a particular issue for coastal tourism – harassment that should be stopped, or a route to an income for genuinely poor famili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aches include: dialogue, regulation, licensing, networking, training and support mechanism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des of conduct – for traders, tourists and busines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17:39Z</dcterms:created>
  <dc:creator>UNWTO</dc:creator>
  <dc:description/>
  <dc:language>en-US</dc:language>
  <cp:lastModifiedBy>Richard Denman</cp:lastModifiedBy>
  <dcterms:modified xsi:type="dcterms:W3CDTF">2013-10-19T18:24:13Z</dcterms:modified>
  <cp:revision>54</cp:revision>
  <dc:subject/>
  <dc:title>PowerPoint Presentation</dc:title>
</cp:coreProperties>
</file>